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3C5-018A-41BE-B1CF-B5C53B05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ABB-C29E-4690-A6A6-C506FC49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E00AF-26F0-40B5-8DDF-CAA3EDB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C76CB-93B0-4EBD-B607-A893BBE6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ECB0C-CAF2-45A8-918D-7760DADC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508AF-8A45-4518-AC1D-76A46535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4D0D9-6077-4551-8E43-E166736F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F34BC-E3C9-4287-ACE9-BD2DC51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3B0F9-188C-4E03-99EF-408F016E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8A19A-B205-4522-8745-962FED47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DE0AB-DE31-4F7F-AD1F-5A198E83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44B14-1355-4212-971F-496FF7F6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420-9207-4EC8-B933-B9235BBB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C0BDA-935B-45CB-AFAB-0F1B6A96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28339-3E00-4EB3-A71D-BD35C054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1224B-34A9-4719-9BC3-39955CEC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E7AD2-BC5A-42D6-82AD-80636677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ED47-FDF9-40FD-96DD-2A64062F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CEE54-79BD-4460-A25A-559E3C9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85E67-A71E-4699-9EE6-5C378F9D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EB42A-3F99-4892-8234-568B67E4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C98F1-5F4C-4491-B48B-1C29DF73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162F4-61E2-4118-A1B3-5E4FA32D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760-C4BC-4BC0-8A74-5F3C2E5C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9957A-1456-497D-895E-0796A7EE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DC730C-E684-4898-BA6C-0464E115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97C7C0-73A9-4FD6-A780-E81749DD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4C55D6-6665-41B2-A4B5-A6A98E04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04BA9F-B980-40CB-8E60-3534869A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F3F132-04E5-4D73-8286-8EB81788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FC7401-D823-419E-AF29-D2CCC89D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03A33B-A195-47AB-8C68-69716097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D253B1-E9A8-45A3-A516-A4FEEE8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FD59C7-83B5-49EC-AA9C-FE6AF949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E571-E2A5-409B-8AA5-089085E8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18BCCA-8ABA-4B3A-87CC-896C086C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7634DF-281B-4F04-AEF4-43B8F5A1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F319B4-BC95-4FBE-BF3B-4A04723E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79DBB-3D35-4D28-B4FF-8E230924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1548D-D8F7-4BA1-AA42-EBA8E09A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A1B63-845D-4BEB-81F0-FA57060F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44F04-6AD7-4F1F-BAC1-68F77379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D1448-2A16-44D7-9574-554A1D2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0EB40-D416-439C-AD0E-6BBD5325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2FA94-4563-4424-897A-24D129A0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862-335C-4078-8652-6F6E1B21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AE0AC-93DE-48C0-8E20-D5FDA50C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CC34A-E321-4D8F-B77B-5C4CD38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27319-1BD6-497E-BF28-A0BBD868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C09C6-7965-41B2-8E07-A36E388B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E7B92-0AFE-460A-A5BA-E3DDBDD9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2A755-C0E0-4FDA-A555-9CC4D81A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17A14-B486-4585-9CF8-D79154FD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2F2C9-C73A-4A23-8BF2-08AEABCA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411A6-C56B-4A9E-B12B-0F6191CC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D511B-6833-4E9D-9B87-38484AF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335A-ED95-4661-9F15-8A3334A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F1220-6CBF-4750-9253-C94F6774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809A3-90EA-47C4-8162-581A2B7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59585-E297-4122-B563-629DC0F3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E2FD7-F328-4558-81CF-050767D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A206B-9280-4C73-9822-B35385FD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5A859-756E-4D88-BCDC-1B5E764D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801FB-685E-42F0-B7F8-587359D3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6FC53-11E0-4EF8-8134-13EBB474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8904B-B6ED-4D1F-978F-DA7B8B0B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A1522-C1C3-4BE4-81AB-8BB6A8D5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7336-721F-41E8-8E36-F61AB27F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2B6DE-A45D-4E2B-8DAA-6A8516FC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63301-6122-4339-BA5D-40F557B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09DD7-FAD7-441E-BEA5-426A64B8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B5124-9513-4963-BF6F-A02B2075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6B7E4-7BDF-4B48-B6E2-483FD1F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FCCDD-E2FC-48F4-B634-0384649C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E2AEA-5861-4891-8D61-2958D545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CF71C-9785-4702-BEFA-592CE845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C6894-7762-4A5B-9892-3BE2F2FE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45A9-AF76-4E05-8D42-52F49D94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76ED-ABB0-4334-99A8-64A9FAB3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5809-CA57-4213-8ECB-B91B7A02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108-4155-4430-8F13-36FBBC26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F906-5187-400C-BB6E-0919635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0D0C-7551-498C-9B6E-39C4344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8BFF-7AB4-49FE-B61A-B7F828D8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F0A1-12AC-499B-93EB-F3EA5132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DF76-3DC7-4D38-BF43-B49A16F3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DC2C-6FE6-4397-8C06-A52BF09C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25DA-DA05-46BA-9F88-88221F3F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8249-D9B9-4953-B597-E51D8B1C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1579-E56A-4DDE-9B84-5B7DA53A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DD8E-9CC9-4367-B8C6-2C72AAD4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FD6-F33A-4BD9-B21F-7045CFFC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33CD-3A78-4538-93C2-6F7DFD23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CB89-9BF0-483F-94F8-9B199511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7857-FCBE-4854-96F7-8D3F7FB5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E0E7-0F1D-41CA-8B72-BF85748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56CE-B3FC-4AB3-96DE-9A08549B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DFEA-A70D-4570-891A-F0F8E9F2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2A40-C942-45E3-BB60-B9C6C74C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C869-6638-4435-80F5-6F69BCDB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039A-EFB6-4FA7-A3D9-8B4C9C57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26138-158B-4B0A-822B-696D2CB3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101-A4EC-4F4D-9175-13E9D717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3F76-0CB9-45F3-A345-46A72B0E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9ADAC-A77F-4C74-BC69-E3278F12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230E-CF88-459B-A7ED-09DBDFFC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06E1A-F42E-4A90-A297-7B5E1585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A5875-2BEF-4BEF-9576-61A3F830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82BC-8DF8-42E5-9E47-257AA5D9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516B-4037-4057-98AF-95A72F9B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AC451-C0CC-4D6B-A37B-DC8F6E49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0318-814B-463A-914D-F8152FD2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D9E2F-581F-4655-9700-697B6297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DF6-77A1-4A22-B8D7-17EC2E71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CDB0A-1EAE-4FFB-AC64-3E9ABD0F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046D7-6FF8-43C9-B309-4E908D17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63B29-14AA-4582-8B69-6A1F13DE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019AB-DE1A-4C80-8184-B866A39F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CE95C-BFEE-4C51-97E1-73A3BE8B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CA1BB-158E-42D3-A5A4-427B98C1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D71EB-7650-497D-A65A-E9519D2C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DD583-D9B6-4CA2-BD97-FBD76AE5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4FE68-0D7F-4969-B6DC-EDD2C97B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00473-E972-4A5F-95F3-23793C3B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7E1-F53A-4DAE-85A9-3E972636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2F04B-BE19-486D-AACD-B83CACFC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C7C12-F4F1-4060-B0DE-E6DD16A0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4E410-759B-4E32-B0A7-EDE67BC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7DCF0-FF79-495A-B36C-1D32BB21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DA7DC-49A5-49A8-941F-DC010EE9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FE7EC-511F-46FC-81DF-2665861A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58AC-EB7D-4EB2-8447-11AE9AD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75437-CDDD-4EB6-891B-57BBB4C9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B730-EC02-4299-8F3C-E7FCAFE8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86C4E-BA9A-465D-BE8C-83FA468A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0D1-9945-41EA-A2D7-F190888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1877B-5C2C-4134-805E-A402F3F3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2FFA-31F0-473D-BBEC-DDBE8B30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09AC9-FCAB-4E7C-97C4-73D00092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7ED38-07DD-4CE5-A3B5-0E77716E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3780B-B2A8-4099-B966-65A9D395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435C-AC79-4DE8-9A7C-20A463A2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E95F0-C657-4457-9115-B7B8B0E5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B2EB-CBF9-49F0-A387-868C4FA1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88045-A42E-427F-9B3C-A5ADFF90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460D8-747A-4E0A-A288-AB17989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D1C-21E6-4166-AA40-6DFD2BE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10AC-8DF4-4070-BAAF-C42FA9D6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F3694-2AE6-4606-9502-85E8BAE3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018E9-437E-4082-BE72-36432C95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6707-50B7-4A0E-840F-9E224EA1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12BD3-3C6A-435E-86EE-B47E4EF2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A5D29-F936-40EB-9DF2-9FEEDC7E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EA7489-D51F-47EB-88B2-922F9BE5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4943E-7FE5-4119-906F-81E72F04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901374-C0DB-4439-AA08-D9C8963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6EEB11-8DAA-497A-A220-C9BE51C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FDE-392F-458C-B051-DFC9B7EF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CA9AC9-5813-4683-AE31-85A8273B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0B9CC3-A4A7-4D89-B80F-CB126CC9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970C7-CAD9-41FB-BE07-454145B7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B873A-3679-4072-A3A0-635D53A4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1702A3-33D7-46DA-8F46-29CF1BB8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2995D-9DF6-4B73-9533-FA653A5F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F45F4-E326-471B-9A53-301FFA55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98908-D031-4AB9-83E2-12AF5A5D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5A36F-8348-4E12-9817-C16DCAEF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39C72-4969-4DED-ACFB-E85A501F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2777-84BA-4785-8403-3CC38940211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1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2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3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3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5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07F8-2C94-4FCE-9594-55235D97C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1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3905-7AFE-4144-99F1-6838D18009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7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3ADD-916E-4BE8-91C5-F4A0E2C97A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3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CC6F-5169-4FF8-B898-65CB80234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8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7A6-0462-4A44-8056-F9F53148E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8139-4DE9-4568-AF80-F71457C087F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1B1D-E25A-4757-BF9A-47CDB0CBC5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DEE8-0AFA-44BD-9F6F-177FD26007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AEB1-5DCA-4ED9-A64D-6F27500A6C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8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725C-8FA8-4812-BE3A-EBCF647B7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911C-0EB3-4D8E-BE8B-A9337AA99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4B8-0A72-4580-8C3F-6C6EF38C9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1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3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4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6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1451-847E-4682-A0E2-7CB11625D4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B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Rach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Greenber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2828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uar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cuarto. Es cuarto bell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3703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a sala. Es una lujos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829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una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upen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409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comedor. Es un increibl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822960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8" dur="2000" fill="hold"/>
                                        <p:tgtEl>
                                          <p:spTgt spid="10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7848720" cy="327816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-228600" y="20257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0" y="2438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edec"/>
                </a:solidFill>
                <a:latin typeface="Arial Black"/>
              </a:rPr>
              <a:t>Es un baño. Es rosa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a Piscina/Ba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Times New Roman"/>
              </a:rPr>
              <a:t>ñ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ra De Hidromasaje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s una piscina/banera de hidromasaje. Es una grand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82296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Jard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un jardin. Es fabulos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8229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nk you for watching my slide sh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4:18Z</dcterms:created>
  <dc:creator>rachel greenberg </dc:creator>
  <dc:description/>
  <dc:language>en-US</dc:language>
  <cp:lastModifiedBy>greenbergrac</cp:lastModifiedBy>
  <dcterms:modified xsi:type="dcterms:W3CDTF">2011-10-26T13:50:08Z</dcterms:modified>
  <cp:revision>6</cp:revision>
  <dc:subject/>
  <dc:title>La Mansion</dc:title>
</cp:coreProperties>
</file>